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4.png" ContentType="image/png"/>
  <Override PartName="/ppt/media/image9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C733-5C21-4E84-ABF6-47BFC56CCB64}" type="slidenum">
              <a:rPr b="0" lang="fi-FI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3DA7-C4C2-4DAB-865C-56B89AEBC460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4D80-5C63-41EC-8F41-E693ABC39236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A0AF-5CF5-438E-8EE1-5C17390C2350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E687-6467-4EC1-849A-CBE1CA1AF410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1A1F-B2EC-45B5-A0D5-61CF7F40D679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8F40-E48A-4545-9CE7-F95348394992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3F49-C6B2-4C98-BACE-5FA89128923B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B928-FBA0-4C15-A3D4-EBDB60268E04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575D-D780-42E3-A603-195D36BAC8BB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6D41-380D-4BD4-8D1F-23E3759CC878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95EB-8F7A-4C80-B5E9-51B3B5CC064E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0418-944B-4D7A-8F8B-49D39BF4283C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D4E3-F2A7-411C-8718-E95A4E88072C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64C9-7B75-46F8-A5EF-0E4ED4AC13E6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148E-DF0D-4ECE-99A6-3A39405441A5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553-0435-4E9B-8234-6B1DD8D3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23D-BF25-4444-84A0-6C9EADC8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857-0A58-4AF1-9E05-A425D549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D0F-9B16-4173-972B-1D3FAB95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6E57-3145-4C3D-BB48-28D4BE07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FE7F-FBA4-4398-AA13-02EB398F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43DB-10B4-4CE7-A83A-BA6C349D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1C04-6331-426A-AB82-8CF26BAF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9B82-415E-4362-A49C-438A397A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7E9A-FDC4-4B11-8552-A0866337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73CD-53AE-4E63-912A-9E70CF46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818-E4FA-4F77-9B57-A384D015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D38E-A908-4E13-B072-8D5E990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5737-03D0-4011-AC69-6E86938E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999C-705D-44F3-9D97-D1DE6864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BD70-D208-4ECA-9358-A617648A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EE54-D68B-4DBA-BA40-CC618420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D27-DE91-4B04-9F6C-7AAEAE0C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477-10E5-4B8B-9E1D-17EF93B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A3F-0E89-4249-BFBA-844DD06D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87A-6BE9-4166-8301-5389A429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32F-F1E1-422D-8FDA-C71901C9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692-7F98-4573-AEB3-AC863266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F56-722D-4D83-B36D-7D048527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432-CB41-4DBC-A475-7C43609A05D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4A84-A611-48D0-895D-A331474BD8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14680" y="0"/>
            <a:ext cx="506700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3"/>
          <p:cNvSpPr txBox="1"/>
          <p:nvPr/>
        </p:nvSpPr>
        <p:spPr>
          <a:xfrm>
            <a:off x="1752480" y="304920"/>
            <a:ext cx="5891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otentiaali -eli asemaenerg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147168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lephant"/>
                <a:ea typeface="Times New Roman"/>
              </a:rPr>
              <a:t>Potentiaalienergia riippuu kappaleen painosta ja etäisyydestä maanpinnast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lephan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Times New Roman"/>
              </a:rPr>
              <a:t>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Elephant"/>
                <a:ea typeface="Times New Roman"/>
              </a:rPr>
              <a:t>pot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Times New Roman"/>
              </a:rPr>
              <a:t>= G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kstikehys 6"/>
          <p:cNvSpPr/>
          <p:nvPr/>
        </p:nvSpPr>
        <p:spPr>
          <a:xfrm>
            <a:off x="964440" y="3643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G = kappaleen pai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kstikehys 7"/>
          <p:cNvSpPr/>
          <p:nvPr/>
        </p:nvSpPr>
        <p:spPr>
          <a:xfrm>
            <a:off x="3661200" y="364320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(massa (kg) kerrottuna kymmenellä 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kstikehys 8"/>
          <p:cNvSpPr/>
          <p:nvPr/>
        </p:nvSpPr>
        <p:spPr>
          <a:xfrm>
            <a:off x="1135440" y="450072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h  = etäisyys maanpinnas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3"/>
          <p:cNvSpPr txBox="1"/>
          <p:nvPr/>
        </p:nvSpPr>
        <p:spPr>
          <a:xfrm>
            <a:off x="1428840" y="228600"/>
            <a:ext cx="6500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Kineettinen energia  eli liike-energ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066680" y="21337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04920" y="1289160"/>
            <a:ext cx="88390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  <a:ea typeface="Times New Roman"/>
              </a:rPr>
              <a:t>Riippuu  liikkuvan kappaleen massasta ja nopeudes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  <a:ea typeface="Times New Roman"/>
              </a:rPr>
              <a:t>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Elephant"/>
                <a:ea typeface="Times New Roman"/>
              </a:rPr>
              <a:t>kin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  <a:ea typeface="Times New Roman"/>
              </a:rPr>
              <a:t> = 1/2m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Elephant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  <a:ea typeface="Times New Roman"/>
              </a:rPr>
              <a:t>m=mass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  <a:ea typeface="Times New Roman"/>
              </a:rPr>
              <a:t>v= nopeu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3962520" y="3429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4038480" y="45720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3"/>
          <a:stretch/>
        </p:blipFill>
        <p:spPr>
          <a:xfrm>
            <a:off x="3962520" y="5715000"/>
            <a:ext cx="1828800" cy="847800"/>
          </a:xfrm>
          <a:prstGeom prst="rect">
            <a:avLst/>
          </a:prstGeom>
          <a:ln w="0">
            <a:noFill/>
          </a:ln>
        </p:spPr>
      </p:pic>
      <p:sp>
        <p:nvSpPr>
          <p:cNvPr id="194" name="Tekstikehys 8"/>
          <p:cNvSpPr/>
          <p:nvPr/>
        </p:nvSpPr>
        <p:spPr>
          <a:xfrm>
            <a:off x="5362200" y="38862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v= 30 km/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kstikehys 9"/>
          <p:cNvSpPr/>
          <p:nvPr/>
        </p:nvSpPr>
        <p:spPr>
          <a:xfrm>
            <a:off x="5448960" y="51055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v = 60 km/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kstikehys 10"/>
          <p:cNvSpPr/>
          <p:nvPr/>
        </p:nvSpPr>
        <p:spPr>
          <a:xfrm>
            <a:off x="6211080" y="60199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v = 60 km/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kstikehys 13"/>
          <p:cNvSpPr/>
          <p:nvPr/>
        </p:nvSpPr>
        <p:spPr>
          <a:xfrm>
            <a:off x="132480" y="449568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Verdana"/>
              </a:rPr>
              <a:t>Vertaa energian suuruutta</a:t>
            </a: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Kineettinen energia ja potentiaalienergia muuntuvat toisikse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9" name="Picture 5" descr="coasterAni.gif (170430 bytes)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145040"/>
          </a:xfrm>
          <a:prstGeom prst="rect">
            <a:avLst/>
          </a:prstGeom>
          <a:ln w="0">
            <a:noFill/>
          </a:ln>
        </p:spPr>
      </p:pic>
      <p:sp>
        <p:nvSpPr>
          <p:cNvPr id="200" name="Tekstikehys 12"/>
          <p:cNvSpPr/>
          <p:nvPr/>
        </p:nvSpPr>
        <p:spPr>
          <a:xfrm>
            <a:off x="684000" y="6095880"/>
            <a:ext cx="67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Ylhäällä vaunu ei liiku, siis kaikki energia potentiaalienergia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kstikehys 13"/>
          <p:cNvSpPr/>
          <p:nvPr/>
        </p:nvSpPr>
        <p:spPr>
          <a:xfrm>
            <a:off x="643320" y="6488280"/>
            <a:ext cx="73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Alhaalla vaunu on maanpinnan tasossa, ei siis potentiaalienergia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otentiaalienergia voi muuttua kineettiseksi energiaks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yös kineettinen energia voi muuttua potentiaalienergiaks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nergian kokonaismäärä ei muutu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kstikehys 3"/>
          <p:cNvSpPr/>
          <p:nvPr/>
        </p:nvSpPr>
        <p:spPr>
          <a:xfrm>
            <a:off x="1203840" y="45720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syöksylask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kstikehys 1"/>
          <p:cNvSpPr/>
          <p:nvPr/>
        </p:nvSpPr>
        <p:spPr>
          <a:xfrm>
            <a:off x="1006920" y="53352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http://www.teachersdomain.org/asset/mck05_int_rollercoaster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kstikehys 2"/>
          <p:cNvSpPr/>
          <p:nvPr/>
        </p:nvSpPr>
        <p:spPr>
          <a:xfrm>
            <a:off x="1261800" y="160020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vuoristora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3209760" cy="4280040"/>
          </a:xfrm>
          <a:prstGeom prst="rect">
            <a:avLst/>
          </a:prstGeom>
          <a:ln w="0">
            <a:noFill/>
          </a:ln>
        </p:spPr>
      </p:pic>
      <p:sp>
        <p:nvSpPr>
          <p:cNvPr id="207" name="Tekstikehys 5"/>
          <p:cNvSpPr/>
          <p:nvPr/>
        </p:nvSpPr>
        <p:spPr>
          <a:xfrm>
            <a:off x="3576960" y="2514600"/>
            <a:ext cx="49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Verdana"/>
              </a:rPr>
              <a:t>Seiväshypyssä hyppääjä muutta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Verdana"/>
              </a:rPr>
              <a:t>liike-energiansa seipään avull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Verdana"/>
              </a:rPr>
              <a:t>potentiaalienergiaks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kstikehys 6"/>
          <p:cNvSpPr/>
          <p:nvPr/>
        </p:nvSpPr>
        <p:spPr>
          <a:xfrm>
            <a:off x="376560" y="6488280"/>
            <a:ext cx="47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reative Commons Attribution ShareAlike 3.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6858000" cy="4568760"/>
          </a:xfrm>
          <a:prstGeom prst="rect">
            <a:avLst/>
          </a:prstGeom>
          <a:ln w="0">
            <a:noFill/>
          </a:ln>
        </p:spPr>
      </p:pic>
      <p:sp>
        <p:nvSpPr>
          <p:cNvPr id="210" name="Suorakulmio 3"/>
          <p:cNvSpPr/>
          <p:nvPr/>
        </p:nvSpPr>
        <p:spPr>
          <a:xfrm>
            <a:off x="3429000" y="45496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Verdana"/>
              </a:rPr>
              <a:t>Millaista energiaa on keinujalla keinumisen eri vaiheissa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Suorakulmio 4"/>
          <p:cNvSpPr/>
          <p:nvPr/>
        </p:nvSpPr>
        <p:spPr>
          <a:xfrm>
            <a:off x="304920" y="51814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Verdana"/>
              </a:rPr>
              <a:t>GFDL), GNU Free docummentation licenc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Comic Sans MS"/>
              </a:rPr>
              <a:t>Energia E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ineettinen ja potentiaalienerg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kstikehys 3"/>
          <p:cNvSpPr/>
          <p:nvPr/>
        </p:nvSpPr>
        <p:spPr>
          <a:xfrm>
            <a:off x="3352680" y="5715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(GFDL), GNU Free docummentation licenc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Energia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n kykyä saada kappaleet liikkeel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nergian tunnus on 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nergian yksikkö on 1 joule =  1J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1 N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mic Sans MS"/>
              </a:rPr>
              <a:t>Energialajeja on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emiallinen - kaasu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alo – salam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ämpö– lieden levy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dinenergia - aurinko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ekaaninen energia - vuoristorat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ääni – musiikki mp3-soittimest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ähkö - hehkulamppu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ineettinen eli liike-energia: liikkeen energia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otentiaali eli asemaenergia: varastoitunutta energia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99"/>
                </a:solidFill>
                <a:latin typeface="Arial"/>
              </a:rPr>
              <a:t>Mekaanisen energian laji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99"/>
                </a:solidFill>
                <a:latin typeface="Arial"/>
              </a:rPr>
              <a:t>Vuoristor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6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Vuoristorata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aunu liikkuu vuoristoradalla.  Sillä on kineettistä energiaa,  koska se liikkuu.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un se hidastaa radan huipulla, sillä on potentiaali- energiaa  paikan perusteella.  Sillä on potentiaalia liikkua, koska se on maanpinnan yläpuolella ja sillä on mahdollisuus lähteä liikkeelle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514600" y="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51:02Z</dcterms:created>
  <dc:creator> Nicolas V. Bates</dc:creator>
  <dc:description/>
  <dc:language>en-US</dc:language>
  <cp:lastModifiedBy>Ritva Tamminen</cp:lastModifiedBy>
  <dcterms:modified xsi:type="dcterms:W3CDTF">2009-10-03T09:58:21Z</dcterms:modified>
  <cp:revision>25</cp:revision>
  <dc:subject/>
  <dc:title>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